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426-2906-49F5-AB50-09F1BC84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7DE-3392-4639-BC5C-06E291DD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1FC-1ED9-4D61-B1C9-2F2E0D8D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574-0AB7-4A31-8421-6783A9FF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40C-BAC1-46F3-B180-C38E05EE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B62-1A52-4042-AC26-0D3EAED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D99-7AE7-49F0-B6A1-6699C226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8E7-B772-4313-8141-87406755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26D-3DCA-49CA-968E-B1B16B40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663-10BB-4967-BEE0-855BAEB9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072-4D59-414B-89C1-8D039A06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713-50E6-45ED-AF7C-C8AFFFF2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9818-4858-4FD6-BB7E-B60B9917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tuart-george-washington-constable-1797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File:Adamstrumbull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enry_Clay_by_Mathew_Brady_1849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IV – American Federalism and 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democratic revol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redients to make a federal 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eralists – Washington and 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628640"/>
            <a:ext cx="1905120" cy="2438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62864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lprit who is going to his place of executi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76640"/>
            <a:ext cx="3024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ing with Fr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ing with Britain? (Jay’s Trea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 the fronti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skey Rebell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62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9-17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01080" y="170028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97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414972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with France? (XYZ Re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vy and Napole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e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125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gusting egotis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publicans – Jefferson and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52600" cy="476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3480" y="1413000"/>
            <a:ext cx="3826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4480" cy="386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3868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2843280" cy="314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63007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War of Independence”1812-18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7201080" cy="4721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286680" y="3914640"/>
            <a:ext cx="28573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620640"/>
            <a:ext cx="3816360" cy="576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26960" y="620640"/>
            <a:ext cx="371340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64911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6491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guerre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1628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Haw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374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81560" y="3571920"/>
            <a:ext cx="4762440" cy="3286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809880" cy="2762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24360" y="1413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mbs bursting in ai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22560" y="0"/>
            <a:ext cx="612144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287880"/>
            <a:ext cx="5148360" cy="3570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87640" cy="3284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515772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Orleans - 1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9:27:01Z</dcterms:created>
  <dc:creator>User</dc:creator>
  <dc:description/>
  <dc:language>en-US</dc:language>
  <cp:lastModifiedBy>User</cp:lastModifiedBy>
  <dcterms:modified xsi:type="dcterms:W3CDTF">2010-11-08T00:00:23Z</dcterms:modified>
  <cp:revision>4</cp:revision>
  <dc:subject/>
  <dc:title>Unit IV – American Federalism and Democracy</dc:title>
</cp:coreProperties>
</file>